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969-4B27-4EDD-889A-7EE0823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41D-BA7F-4D83-9A98-41C9B30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58C-39BD-4968-A1CD-9D8EF71B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E7E-2627-4B47-8EE2-3C9DFA45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E95-7300-4856-871A-3DA57CF1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46A-F250-4EBA-ACA9-7388006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308-0180-484D-B091-94FC913C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CCF-D723-4FEC-9ED7-2148FD60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564-5842-4A3E-B766-8BF12E9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6C4-A410-46FD-BB9A-5BE56EE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811-99F7-4CC4-82EB-A81BEA8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AD0-8337-4346-8261-52FC091F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9085-0F34-4454-A730-17F15B3F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m Jong-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im Jong-il (undated image, released by Korean Central News Agency in August 2008) "/>
          <p:cNvPicPr/>
          <p:nvPr/>
        </p:nvPicPr>
        <p:blipFill>
          <a:blip r:embed="rId1"/>
          <a:stretch/>
        </p:blipFill>
        <p:spPr>
          <a:xfrm>
            <a:off x="152280" y="1828800"/>
            <a:ext cx="3724560" cy="464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im Jong-il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35040"/>
            <a:ext cx="77724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98360"/>
            <a:ext cx="83822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left, and other South Korean missiles are displayed at Korea War Memorial Mus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_South_Korea_Koreas_Nuclear.sff.jpg"/>
          <p:cNvPicPr/>
          <p:nvPr/>
        </p:nvPicPr>
        <p:blipFill>
          <a:blip r:embed="rId1"/>
          <a:stretch/>
        </p:blipFill>
        <p:spPr>
          <a:xfrm>
            <a:off x="1447920" y="457200"/>
            <a:ext cx="5486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center, and other South Korean missile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 at Korea War Memorial Muse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2_South_Korea_Koreas_Nuclear.sff.jpg"/>
          <p:cNvPicPr/>
          <p:nvPr/>
        </p:nvPicPr>
        <p:blipFill>
          <a:blip r:embed="rId1"/>
          <a:stretch/>
        </p:blipFill>
        <p:spPr>
          <a:xfrm>
            <a:off x="2514600" y="228600"/>
            <a:ext cx="339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Nor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uth Korean holds banner attached with pictures of North Korean leader Kim Jong Il and North's missiles during a rally held against North Korea's rocket launch in Seoul, South Ko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3_South_Korea_Koreas_Nuclear.sff.jpg"/>
          <p:cNvPicPr/>
          <p:nvPr/>
        </p:nvPicPr>
        <p:blipFill>
          <a:blip r:embed="rId1"/>
          <a:stretch/>
        </p:blipFill>
        <p:spPr>
          <a:xfrm>
            <a:off x="990720" y="533520"/>
            <a:ext cx="66294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in Seoul, South Korea, protested on Thursday against the North’s scheduled rocket launch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orth Korean soldier on a recent patrol near North Korea’s border with China. The United States is relying on China to persuade the North to rejoin talks over the North’s nuclear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15:56Z</dcterms:created>
  <dc:creator>ws12001</dc:creator>
  <dc:description/>
  <dc:language>en-US</dc:language>
  <cp:lastModifiedBy>ws12001</cp:lastModifiedBy>
  <dcterms:modified xsi:type="dcterms:W3CDTF">2009-05-06T15:18:13Z</dcterms:modified>
  <cp:revision>3</cp:revision>
  <dc:subject/>
  <dc:title>Kim Jong-il</dc:title>
</cp:coreProperties>
</file>